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39C-5D99-4FD8-94E5-49AFB8A0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A29-0726-4ED4-A0A4-BADFA52C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762-F8AC-4521-85F2-3FBC990F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04C-72BC-4ADC-AA6E-77902B4B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A16D-9F6B-4021-9D80-AAC163E9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6EF8-15CE-40E9-ADCD-B877470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F7A-F99F-4F8F-8A94-E6347D64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BC15-D09B-460A-AD5F-8842D86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4F1-979D-4C2B-8112-3036CAE5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7996-559E-490B-AB65-CC5095AA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A5A2-813C-4B8E-967F-D3DE3F7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12F-BCA7-49DB-B67C-5CA7DE5A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788A-F2B4-418E-BCAC-28E09A0F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7B9C-CF68-45B6-BB09-0B61881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983-24BF-4B2A-B901-9D5BAFB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7DE6-29DD-4D18-88AC-F4319748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8185-9FA7-4C28-AE51-9B3ECBDF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BA0-614D-439D-9087-FC513188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67F-5551-4299-BA5A-7E1D1B82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A8B-66E3-436A-B84A-8404AD15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D63-EBF0-4EC1-ABE5-3DAE2E9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66F-E8A9-44FC-AECD-2B6773F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9BE-DED7-4715-A375-12352100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8FD-1586-4FEE-AEC2-FA69E09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BA7-06EB-48FE-9988-8A12AEDA44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944-4586-4F26-8A5E-2701ECA5B2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ivics Learning Target Re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Govern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archy – King/Queen + heredit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itutional monarchy – King/Queen + elected offici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cy – elected offici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ligarchy – group r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talitarian dictatorship – total control over everyt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talism – free enterprise, private companies and supply and demand control the 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ism – goal of equality, government controls most things, high taxes and social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ary system – single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eral system – shared power between state and federal gover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oting / Ele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 of voting process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Regi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Go to polling 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ID ver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. V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 election – every four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y election – selects candidates for general e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election – emergency e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-off election – prior election ended in a 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 money – unregulated donations to a candidate (SUPERPA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umbents – current office ho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ituent – resident of distri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olo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eral views tend to be; pro-immigration, pro-choice, government support for social pro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ervative views tend to be; less government involvement in social programs, tough on crime, less separation of church and s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olo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ic Party – tend to represent more of the liberal vie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ublican Party – tend to represent more of the conservative vie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litical Socialization – how you get your political beliefs (parents, school, friends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2:53:06Z</dcterms:created>
  <dc:creator>School District U46</dc:creator>
  <dc:description/>
  <dc:language>en-US</dc:language>
  <cp:lastModifiedBy>School District U46</cp:lastModifiedBy>
  <dcterms:modified xsi:type="dcterms:W3CDTF">2013-04-02T13:36:24Z</dcterms:modified>
  <cp:revision>4</cp:revision>
  <dc:subject/>
  <dc:title>Civics Learning Target Review</dc:title>
</cp:coreProperties>
</file>